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23.png" ContentType="image/png"/>
  <Override PartName="/ppt/media/image11.png" ContentType="image/png"/>
  <Override PartName="/ppt/media/image7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9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9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dt" idx="25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6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7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14EC6-F889-4036-94FE-768AC060F69F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1022F-D608-468F-BF42-12D076B041E5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7CE68-83F0-4319-8687-76F1E28C8F48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8B168-826A-479F-B5D0-688BF853A01B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C779D-78F2-4291-907C-EDCC572C9CD4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183EC-B5E2-4ED4-8D5F-9982C04A69D0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98535-B2E0-4FBD-BD90-18AC3DF0EEC7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9882C-FCD7-4261-AFA7-5C58D3722046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49669-2F95-47D8-AEFC-E8E56C4697E4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50679-0079-446C-B95D-D6DD50443C54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E6CC6-E3AD-4820-AD76-9D97691EE613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C6B7E-96A2-4F79-9F91-5A99F4D056CF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0AE3B-03E2-457D-BD45-30AB123E43F2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0EAFE-A811-4A8F-9F29-1B167F5A7A88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A0FAA-502C-4C06-894C-E0C820231C86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1CD68-3E0B-48B6-9EEA-5424CC2EE949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15626-BC43-4B2F-9446-F5280E85253E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854AF-01A9-485C-80BC-F6B435D0C0D4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2C581-4384-4E93-ADB2-1D7847E2EDF1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70C68-C051-4690-807F-751CAD966206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1B773-DC3E-4B17-9D89-FBD8F2F242E5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4EE66-42F0-4823-9F8D-35B4A8AD6D4B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11B8B-25E6-4ADE-8EDC-3093F984AC30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D077F-E95E-466F-B906-15635D188628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BD182-892E-466C-B3B1-E869F2243587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43AC6-6F38-485B-AB62-95BBB833A15B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D9EFF-BFCF-49CF-8FC4-3E9DBC0F4F68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5E910-EC27-47A7-9D76-C0A8B8A4FC2D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CDD73-B2A9-4B97-B91B-930A88B71138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D93A6-F49B-489D-9C9B-45741888F522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E9545-41B1-4D13-848C-289370B7B2B7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5CBE5-D574-44FA-805B-5AF7202CDDDD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C8661-F4F3-4C82-ACAA-8ED9BCFBFFFA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593D4-5802-4D0D-91C0-AC62BBDDC10D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9C159-7110-432D-8A9E-8A810C4D9A15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09A63-4684-4AC7-B7E6-FC41C205E9F0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E9FA8-3204-40DF-9980-39B72DE1953B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74961-6F01-4E40-BB2D-A332FAAF98E6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56C2D-9A8E-49B8-866E-1F72924DA45E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914C9-E598-4601-B1A0-D597CF9FFA56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AF732-7B1C-410D-8475-C8712B75F0D1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58F63-2887-4300-A76B-4E58EE85B362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F5517-1E93-4715-8695-D095E6331A53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A403F-0D50-482A-B2B4-080D25040E7E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06106-4961-4C3D-B13C-010E117139D2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5D2-EDCF-449D-A755-F4611E89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6FE-6279-4B43-8BE6-0B6E16B5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B57-FAD9-4A48-82C5-094F4D3B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0031-B6B1-4801-A376-F7F71861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3DBD-82C3-4A8D-9ACD-8CF30320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BD7E-4C69-4D4C-B728-BD9571EA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CF2F-21A2-43A4-9BE2-F28644CD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185D-3B68-4AE5-8664-2716D8FA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6CCB-F6BC-412C-8B6D-9012EC23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995C-363B-49AA-B431-A0325B0B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FD4F-645A-44C1-8205-27E4082E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C3D9-ECD9-4778-A16D-8E8DFFAD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3AAF-0592-4650-8D9F-B4D69F4D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4DCF-0A77-4758-A3B4-1EEFE907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EBE8-027C-4385-984B-D2D7762B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56B5-51AF-4CEA-B2FF-729B209A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7640-1D59-40D7-B96E-FF8E8A70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9E24B-DA01-4BA0-BBBA-96530E3B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7E1FC-876E-4F56-B3CC-3CF3F385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E2491-8F4E-4D6A-A4F3-3F09562D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19649-BAAC-40D6-A130-695A3A3F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39C50-E391-41E6-AD3A-7F9B9CE7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266-D282-427D-B109-4865B70E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EE812-189E-4DE4-83A2-77A839F6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27093-999B-48D7-9C17-70DAA3D4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4979C-FC2A-494A-B6DE-84845028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8AA09-6F4F-433A-AA05-5CE53113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CD243-CCC7-41C5-8E6C-E12D89D1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F7992-BEDE-475C-BC52-1E78FAED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79067-351C-4FBA-B6F7-992B7805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C4A935-A1D7-47EB-8DE6-494A22AB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F3AB6F-D25A-416B-BD64-E69540F6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1FA388-CCCA-457E-8F1B-5205DEDA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A9D-A935-46FB-8959-F8F32546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2F1090-D227-4467-9C71-D15DA796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1A4369-FE5C-442D-BC7B-EC6D06A1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FF3981-E29D-432E-A464-9F8721C7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E2121A-7EED-466C-8BD1-F91E049D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0257AE-6F58-4FAB-9F51-01BE5785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3D99D4-17FF-429D-82FB-8A2C4169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CF2787-0E43-4AB8-BD2D-833D7441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52E46C-B989-424A-B544-271BFD26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3D0963-513A-4DA2-BFAA-969AB2A2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A0CCC-204D-432E-AF33-E52BC31B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1BA-B8E7-4CA3-B283-6C289BBA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8999D0-7A2A-488C-8E7E-0F0AC31E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10D239-8324-423E-8D5E-41FE265A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AB91B-1A99-4755-8D01-B91BD233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ABF1A0-B840-41B0-8E92-D745F1B4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2AFE0F-8B3D-4EA7-BAAC-296DB6DB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FE5F6-DB1D-4202-A7BD-F2931E40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C5199-BBA9-474E-8E14-3C741417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1FDF48-42DB-455E-A1F4-C18D39B9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9EA421-3BB0-4BD1-94F0-469C5B51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549B46-ED5C-4F15-9A61-AAA7544A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15EC-825B-4FB1-B920-DE0C18FB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926807-E436-4E06-885B-03C6C9BC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6707B-86F5-424E-85F4-CB7ED110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58266-9831-4C15-A89E-53A672DE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54ED1-5E41-4EEF-B85F-ED9AE3B0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F90E4-0F02-4116-B7A0-AF538EC9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A3E55-6CE3-4849-9A17-6A2568E2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27828-0F33-4C4A-9048-3CB5F51B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EFBB2-40BE-41CA-ADBA-DBAF557F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B963B-FA86-421B-B669-7EB8C103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C00F6-8ECA-46A1-952A-86278CC6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4B09-25CE-40D5-84A5-3F8D062B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72B51-55AC-492A-BE3D-78AE73D8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11503-54FA-47EE-8C09-2A916E16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EC4CB-10B4-4340-B032-7907185E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F6F73D-7E9B-4BF5-8AEE-E994F3D2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54D4A9-0660-4017-9272-0217E9CB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A1E946-C350-4B7A-B5B0-19601F6D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3A26B6-8946-4249-8161-1921868C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A011D2-930E-4FDF-8F2F-FDF886E5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7B3ED6-1C16-4EB1-A14A-026DFC8A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1519CD-0816-46FF-B096-1578C116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74DF-23B9-490A-87B2-DCA4F6A4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CA4FC5-4A46-4AE1-B999-DB13E395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11ABEB-D038-41A8-99A6-F39D6704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2B0D25-C28B-4E9F-88CD-A519461A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6DB687-9272-4EED-A20F-E8CB0E83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D2ED64-F519-49B6-A2DF-FFAFC85D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23C84-947F-413C-AD4C-17F04FBF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779D5-BD06-46F7-B6C2-CE018ED1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D594B-D0A2-4854-856F-7E01A83B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46F42-40B2-4AC7-9BAA-A4FFAA48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07419-9BDC-4A4F-B373-6E669D1B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65C-AD54-4D2F-BD46-6664012E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A3B17-604F-4FC9-BFE7-48580327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41E9D-F2B6-4A38-BDCA-2B7D71A0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97F56-0852-4AE1-B8E4-578263DF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156B3-94D4-4694-9D6B-6ADA2833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5947A-576A-4322-B4E5-19B41CBC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75710-CF2D-4667-8E9C-06FAD32B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BABE7-4F37-423A-B7DF-F78E190B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hteck 6"/>
          <p:cNvSpPr/>
          <p:nvPr/>
        </p:nvSpPr>
        <p:spPr>
          <a:xfrm>
            <a:off x="0" y="1360440"/>
            <a:ext cx="1008072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hteck 7"/>
          <p:cNvSpPr/>
          <p:nvPr/>
        </p:nvSpPr>
        <p:spPr>
          <a:xfrm>
            <a:off x="0" y="1411200"/>
            <a:ext cx="587520" cy="2523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hteck 8"/>
          <p:cNvSpPr/>
          <p:nvPr/>
        </p:nvSpPr>
        <p:spPr>
          <a:xfrm>
            <a:off x="650880" y="1411200"/>
            <a:ext cx="9429840" cy="25236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401480"/>
            <a:ext cx="587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5820D5-890A-4C6C-B0BE-7D292FCDB680}" type="slidenum">
              <a:rPr b="1" lang="de-DE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eck 9"/>
          <p:cNvSpPr/>
          <p:nvPr/>
        </p:nvSpPr>
        <p:spPr>
          <a:xfrm>
            <a:off x="0" y="6581880"/>
            <a:ext cx="1008072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hteck 10"/>
          <p:cNvSpPr/>
          <p:nvPr/>
        </p:nvSpPr>
        <p:spPr>
          <a:xfrm>
            <a:off x="-9360" y="6672240"/>
            <a:ext cx="2479680" cy="7873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hteck 11"/>
          <p:cNvSpPr/>
          <p:nvPr/>
        </p:nvSpPr>
        <p:spPr>
          <a:xfrm>
            <a:off x="2600280" y="6662880"/>
            <a:ext cx="7480440" cy="785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3880" y="6689520"/>
            <a:ext cx="2268360" cy="75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298600" y="260280"/>
            <a:ext cx="6469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819640" y="252360"/>
            <a:ext cx="924120" cy="419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D8C0CF-97ED-4150-8EA0-AC4C658AFBEC}" type="slidenum">
              <a:rPr b="1" lang="de-DE" sz="15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eck 9"/>
          <p:cNvSpPr/>
          <p:nvPr/>
        </p:nvSpPr>
        <p:spPr>
          <a:xfrm>
            <a:off x="0" y="1679400"/>
            <a:ext cx="10080720" cy="12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hteck 10"/>
          <p:cNvSpPr/>
          <p:nvPr/>
        </p:nvSpPr>
        <p:spPr>
          <a:xfrm>
            <a:off x="0" y="1763640"/>
            <a:ext cx="1428840" cy="109224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hteck 11"/>
          <p:cNvSpPr/>
          <p:nvPr/>
        </p:nvSpPr>
        <p:spPr>
          <a:xfrm>
            <a:off x="1512720" y="1763640"/>
            <a:ext cx="8568000" cy="1092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-360" y="1931760"/>
            <a:ext cx="1428840" cy="77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EB2531-C215-4C50-A27F-8E7019A68A77}" type="slidenum">
              <a:rPr b="1" lang="de-D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ck 6"/>
          <p:cNvSpPr/>
          <p:nvPr/>
        </p:nvSpPr>
        <p:spPr>
          <a:xfrm>
            <a:off x="0" y="1360440"/>
            <a:ext cx="1008072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hteck 7"/>
          <p:cNvSpPr/>
          <p:nvPr/>
        </p:nvSpPr>
        <p:spPr>
          <a:xfrm>
            <a:off x="0" y="1411200"/>
            <a:ext cx="587520" cy="2523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hteck 8"/>
          <p:cNvSpPr/>
          <p:nvPr/>
        </p:nvSpPr>
        <p:spPr>
          <a:xfrm>
            <a:off x="650880" y="1411200"/>
            <a:ext cx="9429840" cy="25236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401480"/>
            <a:ext cx="587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2712AC-95F5-43C4-8CEF-B7015DA87CD2}" type="slidenum">
              <a:rPr b="1" lang="de-DE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eck 6"/>
          <p:cNvSpPr/>
          <p:nvPr/>
        </p:nvSpPr>
        <p:spPr>
          <a:xfrm>
            <a:off x="0" y="1360440"/>
            <a:ext cx="1008072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hteck 7"/>
          <p:cNvSpPr/>
          <p:nvPr/>
        </p:nvSpPr>
        <p:spPr>
          <a:xfrm>
            <a:off x="0" y="1411200"/>
            <a:ext cx="587520" cy="2523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hteck 8"/>
          <p:cNvSpPr/>
          <p:nvPr/>
        </p:nvSpPr>
        <p:spPr>
          <a:xfrm>
            <a:off x="650880" y="1411200"/>
            <a:ext cx="9429840" cy="25236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401480"/>
            <a:ext cx="587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251273-9F1D-45EE-9DF4-E5D416C63FEA}" type="slidenum">
              <a:rPr b="1" lang="de-DE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888240"/>
            <a:ext cx="587520" cy="419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5F4C01-1D22-48C5-816B-4495EEF36BA2}" type="slidenum">
              <a:rPr b="1" lang="de-DE" sz="15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eck 9"/>
          <p:cNvSpPr/>
          <p:nvPr/>
        </p:nvSpPr>
        <p:spPr>
          <a:xfrm>
            <a:off x="-9360" y="5040360"/>
            <a:ext cx="1008036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hteck 10"/>
          <p:cNvSpPr/>
          <p:nvPr/>
        </p:nvSpPr>
        <p:spPr>
          <a:xfrm>
            <a:off x="-9360" y="5140440"/>
            <a:ext cx="1612800" cy="785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hteck 11"/>
          <p:cNvSpPr/>
          <p:nvPr/>
        </p:nvSpPr>
        <p:spPr>
          <a:xfrm>
            <a:off x="1703520" y="5130720"/>
            <a:ext cx="8377200" cy="78588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hteck 12"/>
          <p:cNvSpPr/>
          <p:nvPr/>
        </p:nvSpPr>
        <p:spPr>
          <a:xfrm>
            <a:off x="1595520" y="0"/>
            <a:ext cx="110880" cy="756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88788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5144760"/>
            <a:ext cx="1595520" cy="73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3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9FBAA9-EA2E-4E7B-A2BA-FEB2A10D5A46}" type="slidenum">
              <a:rPr b="1" lang="de-DE" sz="3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763280" y="6887880"/>
            <a:ext cx="504036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eck 9"/>
          <p:cNvSpPr/>
          <p:nvPr/>
        </p:nvSpPr>
        <p:spPr>
          <a:xfrm>
            <a:off x="6721560" y="0"/>
            <a:ext cx="35244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hteck 10"/>
          <p:cNvSpPr/>
          <p:nvPr/>
        </p:nvSpPr>
        <p:spPr>
          <a:xfrm>
            <a:off x="6770520" y="671400"/>
            <a:ext cx="252720" cy="6888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hteck 11"/>
          <p:cNvSpPr/>
          <p:nvPr/>
        </p:nvSpPr>
        <p:spPr>
          <a:xfrm>
            <a:off x="6770520" y="0"/>
            <a:ext cx="252720" cy="587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224840" y="6887880"/>
            <a:ext cx="2435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04720" y="6887880"/>
            <a:ext cx="614376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6603840" y="158400"/>
            <a:ext cx="587520" cy="27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E184B2-A42B-4884-A761-7961753207D3}" type="slidenum">
              <a:rPr b="1" lang="de-DE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 flipV="1">
            <a:off x="503280" y="207720"/>
            <a:ext cx="907092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6283440" y="6851520"/>
            <a:ext cx="34718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Von Thomas Lieb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0" y="-6480"/>
            <a:ext cx="10080720" cy="65660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2603520" y="6668640"/>
            <a:ext cx="7392960" cy="75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w Cen MT"/>
              </a:rPr>
              <a:t>Biogasanlagen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2560" y="1763280"/>
            <a:ext cx="898200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3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Vorgrub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ie Vorgrube dient als Zwischenlager für Gülle und Kosubstrat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Zusätzlich kann man darin auch Substrate zerkleinern, vermischen und verdünne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6119640" y="4500720"/>
            <a:ext cx="3240360" cy="28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82560" y="1763640"/>
            <a:ext cx="8982000" cy="551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4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Feststoffdosier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Er wird mit kosubstraten befüllt und fördert diese dann, je nach Einstellung eine bestimmte Menge, in den Ferment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1979640" y="3780000"/>
            <a:ext cx="684036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2560" y="1763280"/>
            <a:ext cx="898200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5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Ferment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In seinem Inneren bauen viele millionen Bakterien die organischen Bestandteile der Eingangstoffe ab und setzten Methan frei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ie Prozesstemperatur wird meist auf etwa 33-40 Grad Celsius gehalte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5219640" y="4500720"/>
            <a:ext cx="4500720" cy="2879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900000" y="4680000"/>
            <a:ext cx="395928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1931760"/>
            <a:ext cx="254016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Substratverweildauer im Fermenter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5" name="Inhaltsplatzhalter 5" descr=""/>
          <p:cNvPicPr/>
          <p:nvPr/>
        </p:nvPicPr>
        <p:blipFill>
          <a:blip r:embed="rId1"/>
          <a:stretch/>
        </p:blipFill>
        <p:spPr>
          <a:xfrm>
            <a:off x="2603520" y="2208240"/>
            <a:ext cx="7056360" cy="4595760"/>
          </a:xfrm>
          <a:prstGeom prst="rect">
            <a:avLst/>
          </a:prstGeom>
          <a:ln w="0">
            <a:noFill/>
          </a:ln>
        </p:spPr>
      </p:pic>
      <p:sp>
        <p:nvSpPr>
          <p:cNvPr id="396" name="Textfeld 8"/>
          <p:cNvSpPr/>
          <p:nvPr/>
        </p:nvSpPr>
        <p:spPr>
          <a:xfrm>
            <a:off x="7831440" y="6708600"/>
            <a:ext cx="880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dd8047"/>
                </a:solidFill>
                <a:latin typeface="Arial"/>
              </a:rPr>
              <a:t>Zeit /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feld 10"/>
          <p:cNvSpPr/>
          <p:nvPr/>
        </p:nvSpPr>
        <p:spPr>
          <a:xfrm>
            <a:off x="2619000" y="1779480"/>
            <a:ext cx="1233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dd8047"/>
                </a:solidFill>
                <a:latin typeface="Arial"/>
              </a:rPr>
              <a:t>Abbau /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Trocken oder Nassfermentatio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1763280"/>
            <a:ext cx="966456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Trockenfermentatio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Hier können Substrate mit weniger als 85% Wassergehalt  zu Biogas verwertet werde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ie Verwendung von Gülle ist nicht mehr zwingend erforderlich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Hier kommen Substrate wie Mais und Grassilage, Getreidepflanzen, Kartoffeln oder Festmist zum Einsatz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Trocken oder Nassfermentatio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Nassfermentatio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Es wird unterschieden zwisch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w Cen MT"/>
              </a:rPr>
              <a:t>Speicheranlagen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oder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Tw Cen MT"/>
              </a:rPr>
              <a:t>Durchflussanlag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Trocken oder Nassfermentatio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00800" rIns="100800" tIns="50400" bIns="50400" anchor="t">
            <a:normAutofit/>
          </a:bodyPr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000" spc="-1" strike="noStrike" u="sng">
                <a:solidFill>
                  <a:srgbClr val="000000"/>
                </a:solidFill>
                <a:uFillTx/>
                <a:latin typeface="Tw Cen MT"/>
              </a:rPr>
              <a:t>Speicheranlagen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Günstig in der Herstellung und einfach im Betrieb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Keine kontinuierliche Produktion von Bioga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a bei einer Speicheranlage der Fermenter gleichzeitig das Gärrückstandslager bildet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er Fermenter muss geöffnet werden, wenn das Substrat vollständig ausgefault is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Erst dann ist eine neue Inbetriebnahme möglich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404" name="AutoShape 3"/>
          <p:cNvCxnSpPr>
            <a:stCxn id="403" idx="0"/>
            <a:endCxn id="403" idx="0"/>
          </p:cNvCxnSpPr>
          <p:nvPr/>
        </p:nvCxnSpPr>
        <p:spPr>
          <a:xfrm flipH="1" flipV="1" rot="5400000">
            <a:off x="5486760" y="1762920"/>
            <a:ext cx="2520" cy="2520"/>
          </a:xfrm>
          <a:prstGeom prst="bentConnector3">
            <a:avLst>
              <a:gd name="adj1" fmla="val 14383333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405" name="Nach rechts gekrümmter Pfeil 20"/>
          <p:cNvSpPr/>
          <p:nvPr/>
        </p:nvSpPr>
        <p:spPr>
          <a:xfrm>
            <a:off x="39600" y="2994120"/>
            <a:ext cx="714600" cy="928440"/>
          </a:xfrm>
          <a:custGeom>
            <a:avLst/>
            <a:gdLst>
              <a:gd name="textAreaLeft" fmla="*/ 95760 w 714600"/>
              <a:gd name="textAreaRight" fmla="*/ 618840 w 714600"/>
              <a:gd name="textAreaTop" fmla="*/ 164880 h 928440"/>
              <a:gd name="textAreaBottom" fmla="*/ 673920 h 92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85" stAng="-5400000" swAng="-5400000"/>
                <a:lnTo>
                  <a:pt x="0" y="11839"/>
                </a:lnTo>
                <a:arcTo wR="21600" hR="7685" stAng="10800000" swAng="-3241763"/>
                <a:lnTo>
                  <a:pt x="16200" y="21356"/>
                </a:lnTo>
                <a:lnTo>
                  <a:pt x="21600" y="17446"/>
                </a:lnTo>
                <a:lnTo>
                  <a:pt x="16200" y="13048"/>
                </a:lnTo>
                <a:lnTo>
                  <a:pt x="16200" y="15125"/>
                </a:lnTo>
                <a:arcTo wR="21600" hR="7685" stAng="7558237" swAng="2899554"/>
                <a:lnTo>
                  <a:pt x="804" y="9762"/>
                </a:lnTo>
                <a:arcTo wR="21600" hR="7685" stAng="-10457791" swAng="5057791"/>
                <a:close/>
              </a:path>
              <a:path fill="darkenLess" w="21600" h="21600">
                <a:moveTo>
                  <a:pt x="21600" y="0"/>
                </a:moveTo>
                <a:arcTo wR="21600" hR="7685" stAng="-5400000" swAng="-5400000"/>
                <a:lnTo>
                  <a:pt x="0" y="7685"/>
                </a:lnTo>
                <a:arcTo wR="21600" hR="7685" stAng="10800000" swAng="-342209"/>
                <a:lnTo>
                  <a:pt x="804" y="9762"/>
                </a:lnTo>
                <a:arcTo wR="21600" hR="7685" stAng="-10457791" swAng="5057791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Nach rechts gekrümmter Pfeil 22"/>
          <p:cNvSpPr/>
          <p:nvPr/>
        </p:nvSpPr>
        <p:spPr>
          <a:xfrm>
            <a:off x="39600" y="4137120"/>
            <a:ext cx="714600" cy="1143000"/>
          </a:xfrm>
          <a:custGeom>
            <a:avLst/>
            <a:gdLst>
              <a:gd name="textAreaLeft" fmla="*/ 95760 w 714600"/>
              <a:gd name="textAreaRight" fmla="*/ 618840 w 714600"/>
              <a:gd name="textAreaTop" fmla="*/ 218520 h 1143000"/>
              <a:gd name="textAreaBottom" fmla="*/ 83520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69" stAng="-5400000" swAng="-5400000"/>
                <a:lnTo>
                  <a:pt x="0" y="11645"/>
                </a:lnTo>
                <a:arcTo wR="21600" hR="8269" stAng="10800000" swAng="-3360022"/>
                <a:lnTo>
                  <a:pt x="16200" y="21337"/>
                </a:lnTo>
                <a:lnTo>
                  <a:pt x="21600" y="18225"/>
                </a:lnTo>
                <a:lnTo>
                  <a:pt x="16200" y="14587"/>
                </a:lnTo>
                <a:lnTo>
                  <a:pt x="16200" y="16274"/>
                </a:lnTo>
                <a:arcTo wR="21600" hR="8269" stAng="7439978" swAng="3086170"/>
                <a:lnTo>
                  <a:pt x="455" y="9957"/>
                </a:lnTo>
                <a:arcTo wR="21600" hR="8269" stAng="-10526148" swAng="5126148"/>
                <a:close/>
              </a:path>
              <a:path fill="darkenLess" w="21600" h="21600">
                <a:moveTo>
                  <a:pt x="21600" y="0"/>
                </a:moveTo>
                <a:arcTo wR="21600" hR="8269" stAng="-5400000" swAng="-5400000"/>
                <a:lnTo>
                  <a:pt x="0" y="8269"/>
                </a:lnTo>
                <a:arcTo wR="21600" hR="8269" stAng="10800000" swAng="-273852"/>
                <a:lnTo>
                  <a:pt x="455" y="9957"/>
                </a:lnTo>
                <a:arcTo wR="21600" hR="8269" stAng="-10526148" swAng="5126148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Nach rechts gekrümmter Pfeil 24"/>
          <p:cNvSpPr/>
          <p:nvPr/>
        </p:nvSpPr>
        <p:spPr>
          <a:xfrm>
            <a:off x="39600" y="5351400"/>
            <a:ext cx="714600" cy="1214640"/>
          </a:xfrm>
          <a:custGeom>
            <a:avLst/>
            <a:gdLst>
              <a:gd name="textAreaLeft" fmla="*/ 95760 w 714600"/>
              <a:gd name="textAreaRight" fmla="*/ 618840 w 714600"/>
              <a:gd name="textAreaTop" fmla="*/ 236520 h 1214640"/>
              <a:gd name="textAreaBottom" fmla="*/ 88884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18" stAng="-5400000" swAng="-5400000"/>
                <a:lnTo>
                  <a:pt x="0" y="11595"/>
                </a:lnTo>
                <a:arcTo wR="21600" hR="8418" stAng="10800000" swAng="-3388389"/>
                <a:lnTo>
                  <a:pt x="16200" y="21333"/>
                </a:lnTo>
                <a:lnTo>
                  <a:pt x="21600" y="18424"/>
                </a:lnTo>
                <a:lnTo>
                  <a:pt x="16200" y="14980"/>
                </a:lnTo>
                <a:lnTo>
                  <a:pt x="16200" y="16568"/>
                </a:lnTo>
                <a:arcTo wR="21600" hR="8418" stAng="7411611" swAng="3131425"/>
                <a:lnTo>
                  <a:pt x="388" y="10006"/>
                </a:lnTo>
                <a:arcTo wR="21600" hR="8418" stAng="-10543036" swAng="5143036"/>
                <a:close/>
              </a:path>
              <a:path fill="darkenLess" w="21600" h="21600">
                <a:moveTo>
                  <a:pt x="21600" y="0"/>
                </a:moveTo>
                <a:arcTo wR="21600" hR="8418" stAng="-5400000" swAng="-5400000"/>
                <a:lnTo>
                  <a:pt x="0" y="8418"/>
                </a:lnTo>
                <a:arcTo wR="21600" hR="8418" stAng="10800000" swAng="-256964"/>
                <a:lnTo>
                  <a:pt x="388" y="10006"/>
                </a:lnTo>
                <a:arcTo wR="21600" hR="8418" stAng="-10543036" swAng="5143036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Trocken oder Nassfermentatio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Durchflussanlag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Sie besitzt mehrere Stationen, durch die das Substrat automatisch fließ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Kontinuierliche Produktion von Bioga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Da das ausgefaulte Substrat in ein Gärrückstandslager gepumpt wird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Nach rechts gekrümmter Pfeil 5"/>
          <p:cNvSpPr/>
          <p:nvPr/>
        </p:nvSpPr>
        <p:spPr>
          <a:xfrm>
            <a:off x="254160" y="2922480"/>
            <a:ext cx="500040" cy="1143000"/>
          </a:xfrm>
          <a:custGeom>
            <a:avLst/>
            <a:gdLst>
              <a:gd name="textAreaLeft" fmla="*/ 66960 w 500040"/>
              <a:gd name="textAreaRight" fmla="*/ 433080 w 500040"/>
              <a:gd name="textAreaTop" fmla="*/ 238680 h 1143000"/>
              <a:gd name="textAreaBottom" fmla="*/ 8416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28" stAng="-5400000" swAng="-5400000"/>
                <a:lnTo>
                  <a:pt x="0" y="11391"/>
                </a:lnTo>
                <a:arcTo wR="21600" hR="9028" stAng="10800000" swAng="-3497645"/>
                <a:lnTo>
                  <a:pt x="16200" y="21313"/>
                </a:lnTo>
                <a:lnTo>
                  <a:pt x="21600" y="19238"/>
                </a:lnTo>
                <a:lnTo>
                  <a:pt x="16200" y="16588"/>
                </a:lnTo>
                <a:lnTo>
                  <a:pt x="16200" y="17769"/>
                </a:lnTo>
                <a:arcTo wR="21600" hR="9028" stAng="7302355" swAng="3308164"/>
                <a:lnTo>
                  <a:pt x="186" y="10210"/>
                </a:lnTo>
                <a:arcTo wR="21600" hR="9028" stAng="-10610519" swAng="5210519"/>
                <a:close/>
              </a:path>
              <a:path fill="darkenLess" w="21600" h="21600">
                <a:moveTo>
                  <a:pt x="21600" y="0"/>
                </a:moveTo>
                <a:arcTo wR="21600" hR="9028" stAng="-5400000" swAng="-5400000"/>
                <a:lnTo>
                  <a:pt x="0" y="9028"/>
                </a:lnTo>
                <a:arcTo wR="21600" hR="9028" stAng="10800000" swAng="-189481"/>
                <a:lnTo>
                  <a:pt x="186" y="10210"/>
                </a:lnTo>
                <a:arcTo wR="21600" hR="9028" stAng="-10610519" swAng="5210519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Nach rechts gekrümmter Pfeil 7"/>
          <p:cNvSpPr/>
          <p:nvPr/>
        </p:nvSpPr>
        <p:spPr>
          <a:xfrm>
            <a:off x="254160" y="4280040"/>
            <a:ext cx="500040" cy="128556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560"/>
              <a:gd name="textAreaBottom" fmla="*/ 94860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6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Gärrückstandslag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Hier werden die Reste der Gärung gelagert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Sie werden von hier aus als Dünger auf die Felder gebracht, da sie noch wertvolle Stoffe enthalte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Chemische Reaktionen im Fermenter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1611360" y="2208240"/>
            <a:ext cx="58291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Einsatz von Biogasanlag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0200" indent="-3240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Vorkomme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Landwirtschaf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Ernährungs-und Agrar-Industri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Kommunalen Entsorgung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Biogas Zusammensetz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Das entstandene Biogas besteht aus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50-65 %  energiereichem Methan ( CH</a:t>
            </a:r>
            <a:r>
              <a:rPr b="0" lang="de-DE" sz="2600" spc="-1" strike="noStrike" baseline="-33000">
                <a:solidFill>
                  <a:srgbClr val="000000"/>
                </a:solidFill>
                <a:latin typeface="Tw Cen MT"/>
              </a:rPr>
              <a:t>4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35-50 %  Kohlendioxid (CO</a:t>
            </a:r>
            <a:r>
              <a:rPr b="0" lang="de-DE" sz="2600" spc="-1" strike="noStrike" baseline="-33000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&lt;1 %  Schwefelwasserstoff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Spurengasen ( Wasserdampf, Stickstoff, Sauerstoff 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Biogas Zusammensetz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100800" rIns="100800" tIns="2304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Biogas enthält </a:t>
            </a: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Schwefelwasserstoff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        10-125 mg/m³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                   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hohe Toxität / Korrosions bilden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Entschwefelung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Tw Cen MT"/>
              <a:buAutoNum type="arabicParenR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Biologische Entschwefel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2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Chemische Entschwefel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feil nach rechts 5"/>
          <p:cNvSpPr/>
          <p:nvPr/>
        </p:nvSpPr>
        <p:spPr>
          <a:xfrm>
            <a:off x="5826240" y="1851120"/>
            <a:ext cx="571320" cy="28548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dd80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feil nach unten 6"/>
          <p:cNvSpPr/>
          <p:nvPr/>
        </p:nvSpPr>
        <p:spPr>
          <a:xfrm>
            <a:off x="4826160" y="2279520"/>
            <a:ext cx="285480" cy="57168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dd804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(Vor) Entschwefelungsverfahr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-360" y="1931760"/>
            <a:ext cx="243684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ffff"/>
                </a:solidFill>
                <a:uFillTx/>
                <a:latin typeface="Tw Cen MT"/>
              </a:rPr>
              <a:t>Biologische Entschwefelu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Effektive mikrobiologische Entschwefelung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4" name="Inhaltsplatzhalter 7" descr="Prechtlabb.5.jpg"/>
          <p:cNvPicPr/>
          <p:nvPr/>
        </p:nvPicPr>
        <p:blipFill>
          <a:blip r:embed="rId1"/>
          <a:stretch/>
        </p:blipFill>
        <p:spPr>
          <a:xfrm>
            <a:off x="3306600" y="1932120"/>
            <a:ext cx="5650200" cy="48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(Vor) Entschwefelungsverfahr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 u="sng">
                <a:solidFill>
                  <a:srgbClr val="000000"/>
                </a:solidFill>
                <a:uFillTx/>
                <a:latin typeface="Tw Cen MT"/>
              </a:rPr>
              <a:t>Chemische Entschwefel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Basiert auf der Zugabe von Stoffen in den Fermenter, die den Schwefel binde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Hierbei wird vor allem Eisenoxid verwende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(Haupt) Entschwefelungsverfahr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74640" y="182376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Schwefelwasserstoffentfernung mit Aktivkohl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(Feinentschwefelung)                              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1440000" y="3780000"/>
            <a:ext cx="6840360" cy="3240000"/>
          </a:xfrm>
          <a:prstGeom prst="rect">
            <a:avLst/>
          </a:prstGeom>
          <a:ln w="0">
            <a:noFill/>
          </a:ln>
        </p:spPr>
      </p:pic>
      <p:sp>
        <p:nvSpPr>
          <p:cNvPr id="430" name="Pfeil nach unten 5"/>
          <p:cNvSpPr/>
          <p:nvPr/>
        </p:nvSpPr>
        <p:spPr>
          <a:xfrm>
            <a:off x="3540240" y="2422440"/>
            <a:ext cx="221436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bfd3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(Haupt) Entschwefelungsverfahr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900000" y="2160720"/>
            <a:ext cx="77691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Gastrockn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82560" y="1850760"/>
            <a:ext cx="898848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Wird unterteilt in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Adsorptive Gastrocknungsverfahr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Kondensationsverfahren           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Gastrockn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Adsorptive Gastrocknungsverfahre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Wasserdampf lagert sich an bestimmten Stoffen ab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(z.B. an Kieselgelen oder Aluminiumoxide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In Form von Granulat in einem Festbettadsorber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feil nach unten 5"/>
          <p:cNvSpPr/>
          <p:nvPr/>
        </p:nvSpPr>
        <p:spPr>
          <a:xfrm>
            <a:off x="3611520" y="4137120"/>
            <a:ext cx="8571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Gastrockn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Kondensationsverfahre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Biogas wird gekühlt, wodurch das darin enthaltene Wasser auskondensier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Das Wasser wird dem Prozess entnommen und abgeführ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2440" indent="-514440">
              <a:spcBef>
                <a:spcPts val="774"/>
              </a:spcBef>
              <a:buClr>
                <a:srgbClr val="dd8047"/>
              </a:buClr>
              <a:buFont typeface="Tw Cen MT"/>
              <a:buAutoNum type="arabicPeriod" startAt="7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Folienspeich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- Gasspeicherung bei    &lt;0,1 bar Druck 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Anforderungen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Müssen gasdicht, druckfest, UV,-temperatur-und Witterungsbeständig sei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Anforderungen an Folien aus Kunststoffen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Reißfest :        min. 500N/ 5 cm² od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Zugfestigkeit : min. 250N/ 5 cm²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Temperaturbeständig von -30 bis +50°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Einsatz von Biogasanlag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1768320"/>
            <a:ext cx="95742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0200" indent="-3240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Vorkomme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Landwirtschaf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Ernährungs-und Agrar-Industri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Kommunalen Entsorgung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Zi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Aus Vergärung von organischen Stoffen </a:t>
            </a:r>
            <a:r>
              <a:rPr b="1" i="1" lang="de-DE" sz="3200" spc="-1" strike="noStrike" u="sng">
                <a:solidFill>
                  <a:srgbClr val="c00000"/>
                </a:solidFill>
                <a:uFillTx/>
                <a:latin typeface="Tw Cen MT"/>
              </a:rPr>
              <a:t>Energie</a:t>
            </a: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 in Form von Strom und Wärme zu gewinne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7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Folienspeich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1440000" y="2519280"/>
            <a:ext cx="7380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7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Folienspeicher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im Ferment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1039680" y="2779560"/>
            <a:ext cx="8115480" cy="38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8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Blockheizkraftwerk 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(BHKW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1"/>
          <a:stretch/>
        </p:blipFill>
        <p:spPr>
          <a:xfrm>
            <a:off x="2176560" y="2340000"/>
            <a:ext cx="5924520" cy="48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BHKW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Optimale Energieausbeute nur bei genügender        Sauerstoffzugab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Ansonsten keine vollständige Methanverbrennu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Sauerstoff   +  Methan        Kohlenstoffdioxid+Wass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      +   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4                                      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O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+  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453" name="AutoShape 3"/>
          <p:cNvCxnSpPr>
            <a:stCxn id="452" idx="3"/>
            <a:endCxn id="452" idx="3"/>
          </p:cNvCxnSpPr>
          <p:nvPr/>
        </p:nvCxnSpPr>
        <p:spPr>
          <a:xfrm>
            <a:off x="9575280" y="4218120"/>
            <a:ext cx="39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454" name="AutoShape 4"/>
          <p:cNvCxnSpPr>
            <a:stCxn id="452" idx="3"/>
            <a:endCxn id="452" idx="3"/>
          </p:cNvCxnSpPr>
          <p:nvPr/>
        </p:nvCxnSpPr>
        <p:spPr>
          <a:xfrm>
            <a:off x="9575280" y="4218120"/>
            <a:ext cx="39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455" name="Pfeil nach rechts 10"/>
          <p:cNvSpPr/>
          <p:nvPr/>
        </p:nvSpPr>
        <p:spPr>
          <a:xfrm>
            <a:off x="4111560" y="4780080"/>
            <a:ext cx="42876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feil nach rechts 12"/>
          <p:cNvSpPr/>
          <p:nvPr/>
        </p:nvSpPr>
        <p:spPr>
          <a:xfrm>
            <a:off x="4111560" y="5208480"/>
            <a:ext cx="42876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Nach rechts gekrümmter Pfeil 8"/>
          <p:cNvSpPr/>
          <p:nvPr/>
        </p:nvSpPr>
        <p:spPr>
          <a:xfrm>
            <a:off x="611280" y="2851200"/>
            <a:ext cx="428400" cy="1143000"/>
          </a:xfrm>
          <a:custGeom>
            <a:avLst/>
            <a:gdLst>
              <a:gd name="textAreaLeft" fmla="*/ 57240 w 428400"/>
              <a:gd name="textAreaRight" fmla="*/ 371160 w 428400"/>
              <a:gd name="textAreaTop" fmla="*/ 245520 h 1143000"/>
              <a:gd name="textAreaBottom" fmla="*/ 8438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81" stAng="-5400000" swAng="-5400000"/>
                <a:lnTo>
                  <a:pt x="0" y="11307"/>
                </a:lnTo>
                <a:arcTo wR="21600" hR="9281" stAng="10800000" swAng="-3539862"/>
                <a:lnTo>
                  <a:pt x="16200" y="21305"/>
                </a:lnTo>
                <a:lnTo>
                  <a:pt x="21600" y="19575"/>
                </a:lnTo>
                <a:lnTo>
                  <a:pt x="16200" y="17255"/>
                </a:lnTo>
                <a:lnTo>
                  <a:pt x="16200" y="18267"/>
                </a:lnTo>
                <a:arcTo wR="21600" hR="9281" stAng="7260138" swAng="3377789"/>
                <a:lnTo>
                  <a:pt x="129" y="10294"/>
                </a:lnTo>
                <a:arcTo wR="21600" hR="9281" stAng="-10637927" swAng="5237927"/>
                <a:close/>
              </a:path>
              <a:path fill="darkenLess" w="21600" h="21600">
                <a:moveTo>
                  <a:pt x="21600" y="0"/>
                </a:moveTo>
                <a:arcTo wR="21600" hR="9281" stAng="-5400000" swAng="-5400000"/>
                <a:lnTo>
                  <a:pt x="0" y="9281"/>
                </a:lnTo>
                <a:arcTo wR="21600" hR="9281" stAng="10800000" swAng="-162073"/>
                <a:lnTo>
                  <a:pt x="129" y="10294"/>
                </a:lnTo>
                <a:arcTo wR="21600" hR="9281" stAng="-10637927" swAng="5237927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BHKW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Bei ungenügender Sauerstoffzugabe entstehen unerwünschte Nebenprodukte wie z.B Kohlenstoffmonoxid (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O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)  oder                                                     Kohlenstoff (Ruß)  (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Methan + Sauerstoff          Kohlenstoffmonoxid + Wass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+     3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O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         +   4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w Cen MT"/>
              </a:rPr>
              <a:t>od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Methan + Sauerstoff           Kohlenstoff + Wass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4   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+   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                                    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    +  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r>
              <a:rPr b="0" lang="de-DE" sz="2400" spc="-1" strike="noStrike" baseline="-33000">
                <a:solidFill>
                  <a:srgbClr val="c00000"/>
                </a:solidFill>
                <a:latin typeface="Tw Cen MT"/>
              </a:rPr>
              <a:t> 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feil nach rechts 7"/>
          <p:cNvSpPr/>
          <p:nvPr/>
        </p:nvSpPr>
        <p:spPr>
          <a:xfrm>
            <a:off x="3468600" y="4208400"/>
            <a:ext cx="57168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feil nach rechts 10"/>
          <p:cNvSpPr/>
          <p:nvPr/>
        </p:nvSpPr>
        <p:spPr>
          <a:xfrm>
            <a:off x="3468600" y="4637160"/>
            <a:ext cx="57168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feil nach rechts 11"/>
          <p:cNvSpPr/>
          <p:nvPr/>
        </p:nvSpPr>
        <p:spPr>
          <a:xfrm>
            <a:off x="3468600" y="5637240"/>
            <a:ext cx="57168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feil nach rechts 12"/>
          <p:cNvSpPr/>
          <p:nvPr/>
        </p:nvSpPr>
        <p:spPr>
          <a:xfrm>
            <a:off x="3468600" y="6137280"/>
            <a:ext cx="57168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sberechn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w Cen MT"/>
              </a:rPr>
              <a:t>Eine Biogasanlage benötigt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Anbaufläche (ca. 0,3-1,0 ha pro kW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Kapital (3000 -5000 € pro kW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Arbeitskraft (ca. 1-3 Std pro Tag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bebaubare Hoffläche (ca. 0,5 -1 ha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sberechn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Die Wirtschaftlichkeit einer Biogasanlage wird   insbesondere bestimmt von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EEG Gesetz für den Vorrang Erneuerbarer Energien</a:t>
            </a:r>
            <a:r>
              <a:rPr b="0" lang="de-DE" sz="2000" spc="-1" strike="noStrike">
                <a:solidFill>
                  <a:srgbClr val="000000"/>
                </a:solidFill>
                <a:latin typeface="Tw Cen MT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Investitionskosten, Anlagengröß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Zuschüsse, Zinssätze, Besteueru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Anlagenleistu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Wärmenutzu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Kosten für Biomasse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Vorteil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Nutzung von erneuerbaren Energi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CO</a:t>
            </a:r>
            <a:r>
              <a:rPr b="0" lang="de-DE" sz="2600" spc="-1" strike="noStrike" baseline="-33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neutrale Energieerzeug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Einsatz des Methans als Treibstof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Vorteil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Nutzung von erneuerbaren Energi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CO</a:t>
            </a:r>
            <a:r>
              <a:rPr b="0" lang="de-DE" sz="2600" spc="-1" strike="noStrike" baseline="-33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neutrale Energieerzeug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Einsatz des Methans als Treibstof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Nachteil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Hoher Investitionsaufwan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Eventuelle Geruchsbelästig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Großer Flächenbedarf für die „Energiepflanzen“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Eventuelle ökologische Probleme durch gezielten Anbau von „Energiepflanzen“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Rechteck 3"/>
          <p:cNvSpPr/>
          <p:nvPr/>
        </p:nvSpPr>
        <p:spPr>
          <a:xfrm>
            <a:off x="2775960" y="3605040"/>
            <a:ext cx="4528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erteilung des Energiebedarfs Im Hausha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74" name="Inhaltsplatzhalter 3" descr="FNR_Biogasanlagenbestand_2010_orange_72dpi.JPG"/>
          <p:cNvPicPr/>
          <p:nvPr/>
        </p:nvPicPr>
        <p:blipFill>
          <a:blip r:embed="rId1"/>
          <a:stretch/>
        </p:blipFill>
        <p:spPr>
          <a:xfrm>
            <a:off x="682560" y="2065320"/>
            <a:ext cx="8358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Aufbau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682560" y="1851120"/>
            <a:ext cx="8398080" cy="49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1763640"/>
            <a:ext cx="10080720" cy="5796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w Cen MT"/>
              </a:rPr>
              <a:t>Vergütung: nach EE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w Cen MT"/>
              </a:rPr>
              <a:t>Grundvergütung nach Leistung der Anl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w Cen MT"/>
              </a:rPr>
              <a:t>Jährliche Abnahme, um Effizienzsteigerung und Kostensenkung einer Anlage zu erzielen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w Cen MT"/>
              </a:rPr>
              <a:t>NawaRo,Abfälle,Güllebonus:Verwendung besonderer Inputstoff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w Cen MT"/>
              </a:rPr>
              <a:t>Technologiebonus: Einsatz spezieller Verstromungstechni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w Cen MT"/>
              </a:rPr>
              <a:t>       </a:t>
            </a:r>
            <a:r>
              <a:rPr b="0" lang="de-DE" sz="1600" spc="-1" strike="noStrike">
                <a:solidFill>
                  <a:srgbClr val="000000"/>
                </a:solidFill>
                <a:latin typeface="Tw Cen MT"/>
              </a:rPr>
              <a:t>Technologien:Gasturbine, Brennstoffzelle, Organic-Rankine-Anlage,Stirlingmotor,Dampfmotor,Kalina-Cycl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w Cen MT"/>
              </a:rPr>
              <a:t>KWK-Bonus:Beim Einsatz einer Anlage zur Kraft-Wärme-Kopplu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us 7"/>
          <p:cNvSpPr/>
          <p:nvPr/>
        </p:nvSpPr>
        <p:spPr>
          <a:xfrm>
            <a:off x="71280" y="3279600"/>
            <a:ext cx="468360" cy="500400"/>
          </a:xfrm>
          <a:custGeom>
            <a:avLst/>
            <a:gdLst>
              <a:gd name="textAreaLeft" fmla="*/ 61920 w 468360"/>
              <a:gd name="textAreaRight" fmla="*/ 406440 w 468360"/>
              <a:gd name="textAreaTop" fmla="*/ 195120 h 500400"/>
              <a:gd name="textAreaBottom" fmla="*/ 305280 h 500400"/>
            </a:gdLst>
            <a:ahLst/>
            <a:rect l="textAreaLeft" t="textAreaTop" r="textAreaRight" b="textAreaBottom"/>
            <a:pathLst>
              <a:path w="468312" h="500063">
                <a:moveTo>
                  <a:pt x="62075" y="194958"/>
                </a:moveTo>
                <a:lnTo>
                  <a:pt x="179083" y="194958"/>
                </a:lnTo>
                <a:lnTo>
                  <a:pt x="179083" y="66283"/>
                </a:lnTo>
                <a:lnTo>
                  <a:pt x="289229" y="66283"/>
                </a:lnTo>
                <a:lnTo>
                  <a:pt x="289229" y="194958"/>
                </a:lnTo>
                <a:lnTo>
                  <a:pt x="406237" y="194958"/>
                </a:lnTo>
                <a:lnTo>
                  <a:pt x="406237" y="305105"/>
                </a:lnTo>
                <a:lnTo>
                  <a:pt x="289229" y="305105"/>
                </a:lnTo>
                <a:lnTo>
                  <a:pt x="289229" y="433780"/>
                </a:lnTo>
                <a:lnTo>
                  <a:pt x="179083" y="433780"/>
                </a:lnTo>
                <a:lnTo>
                  <a:pt x="179083" y="305105"/>
                </a:lnTo>
                <a:lnTo>
                  <a:pt x="62075" y="305105"/>
                </a:lnTo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39640" y="4351320"/>
          <a:ext cx="9541080" cy="428760"/>
        </p:xfrm>
        <a:graphic>
          <a:graphicData uri="http://schemas.openxmlformats.org/drawingml/2006/table">
            <a:tbl>
              <a:tblPr/>
              <a:tblGrid>
                <a:gridCol w="3179880"/>
                <a:gridCol w="3181320"/>
                <a:gridCol w="31798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1- 4 c/kWh (Güllebonu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2 c/kWh (Pflanzenreste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4 – 7 c/kWh (NawaR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sp>
        <p:nvSpPr>
          <p:cNvPr id="479" name="Plus 11"/>
          <p:cNvSpPr/>
          <p:nvPr/>
        </p:nvSpPr>
        <p:spPr>
          <a:xfrm>
            <a:off x="71280" y="4351320"/>
            <a:ext cx="468360" cy="500040"/>
          </a:xfrm>
          <a:custGeom>
            <a:avLst/>
            <a:gdLst>
              <a:gd name="textAreaLeft" fmla="*/ 61920 w 468360"/>
              <a:gd name="textAreaRight" fmla="*/ 406440 w 468360"/>
              <a:gd name="textAreaTop" fmla="*/ 194760 h 500040"/>
              <a:gd name="textAreaBottom" fmla="*/ 305280 h 500040"/>
            </a:gdLst>
            <a:ahLst/>
            <a:rect l="textAreaLeft" t="textAreaTop" r="textAreaRight" b="textAreaBottom"/>
            <a:pathLst>
              <a:path w="468312" h="500062">
                <a:moveTo>
                  <a:pt x="62075" y="194958"/>
                </a:moveTo>
                <a:lnTo>
                  <a:pt x="179083" y="194958"/>
                </a:lnTo>
                <a:lnTo>
                  <a:pt x="179083" y="66283"/>
                </a:lnTo>
                <a:lnTo>
                  <a:pt x="289229" y="66283"/>
                </a:lnTo>
                <a:lnTo>
                  <a:pt x="289229" y="194958"/>
                </a:lnTo>
                <a:lnTo>
                  <a:pt x="406237" y="194958"/>
                </a:lnTo>
                <a:lnTo>
                  <a:pt x="406237" y="305104"/>
                </a:lnTo>
                <a:lnTo>
                  <a:pt x="289229" y="305104"/>
                </a:lnTo>
                <a:lnTo>
                  <a:pt x="289229" y="433779"/>
                </a:lnTo>
                <a:lnTo>
                  <a:pt x="179083" y="433779"/>
                </a:lnTo>
                <a:lnTo>
                  <a:pt x="179083" y="305104"/>
                </a:lnTo>
                <a:lnTo>
                  <a:pt x="62075" y="305104"/>
                </a:lnTo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539640" y="5208480"/>
          <a:ext cx="9541080" cy="371520"/>
        </p:xfrm>
        <a:graphic>
          <a:graphicData uri="http://schemas.openxmlformats.org/drawingml/2006/table">
            <a:tbl>
              <a:tblPr/>
              <a:tblGrid>
                <a:gridCol w="4770720"/>
                <a:gridCol w="477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1 c/kWh (Anlagen bis 700 m³/Stunde)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2 c/kWh (Anlagen bis 350 m³/Stunde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sp>
        <p:nvSpPr>
          <p:cNvPr id="481" name="Plus 14"/>
          <p:cNvSpPr/>
          <p:nvPr/>
        </p:nvSpPr>
        <p:spPr>
          <a:xfrm>
            <a:off x="71280" y="5780160"/>
            <a:ext cx="468360" cy="500040"/>
          </a:xfrm>
          <a:custGeom>
            <a:avLst/>
            <a:gdLst>
              <a:gd name="textAreaLeft" fmla="*/ 61920 w 468360"/>
              <a:gd name="textAreaRight" fmla="*/ 406440 w 468360"/>
              <a:gd name="textAreaTop" fmla="*/ 194760 h 500040"/>
              <a:gd name="textAreaBottom" fmla="*/ 305280 h 500040"/>
            </a:gdLst>
            <a:ahLst/>
            <a:rect l="textAreaLeft" t="textAreaTop" r="textAreaRight" b="textAreaBottom"/>
            <a:pathLst>
              <a:path w="468312" h="500062">
                <a:moveTo>
                  <a:pt x="62075" y="194958"/>
                </a:moveTo>
                <a:lnTo>
                  <a:pt x="179083" y="194958"/>
                </a:lnTo>
                <a:lnTo>
                  <a:pt x="179083" y="66283"/>
                </a:lnTo>
                <a:lnTo>
                  <a:pt x="289229" y="66283"/>
                </a:lnTo>
                <a:lnTo>
                  <a:pt x="289229" y="194958"/>
                </a:lnTo>
                <a:lnTo>
                  <a:pt x="406237" y="194958"/>
                </a:lnTo>
                <a:lnTo>
                  <a:pt x="406237" y="305104"/>
                </a:lnTo>
                <a:lnTo>
                  <a:pt x="289229" y="305104"/>
                </a:lnTo>
                <a:lnTo>
                  <a:pt x="289229" y="433779"/>
                </a:lnTo>
                <a:lnTo>
                  <a:pt x="179083" y="433779"/>
                </a:lnTo>
                <a:lnTo>
                  <a:pt x="179083" y="305104"/>
                </a:lnTo>
                <a:lnTo>
                  <a:pt x="62075" y="305104"/>
                </a:lnTo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611280" y="6708600"/>
          <a:ext cx="9469440" cy="371520"/>
        </p:xfrm>
        <a:graphic>
          <a:graphicData uri="http://schemas.openxmlformats.org/drawingml/2006/table">
            <a:tbl>
              <a:tblPr/>
              <a:tblGrid>
                <a:gridCol w="9469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                                                           </a:t>
                      </a: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 c/kW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611280" y="2708280"/>
          <a:ext cx="9469440" cy="639720"/>
        </p:xfrm>
        <a:graphic>
          <a:graphicData uri="http://schemas.openxmlformats.org/drawingml/2006/table">
            <a:tbl>
              <a:tblPr/>
              <a:tblGrid>
                <a:gridCol w="3522600"/>
                <a:gridCol w="2948040"/>
                <a:gridCol w="2998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7.71c/kWh (bis 20 MW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9.09c/kWh (bis 500 kW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11.55c/kWh (bis 150 kw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sp>
        <p:nvSpPr>
          <p:cNvPr id="484" name="Rechteck 10"/>
          <p:cNvSpPr/>
          <p:nvPr/>
        </p:nvSpPr>
        <p:spPr>
          <a:xfrm>
            <a:off x="2775960" y="3605040"/>
            <a:ext cx="4528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erteilung des Energiebedarfs Im Hausha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-360" y="1931760"/>
            <a:ext cx="243684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Primärenergie - verbrauch in Deutschland in 2008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7" name="Inhaltsplatzhalter 6" descr=""/>
          <p:cNvPicPr/>
          <p:nvPr/>
        </p:nvPicPr>
        <p:blipFill>
          <a:blip r:embed="rId1"/>
          <a:stretch/>
        </p:blipFill>
        <p:spPr>
          <a:xfrm>
            <a:off x="2603520" y="1932120"/>
            <a:ext cx="7056360" cy="48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-360" y="1931760"/>
            <a:ext cx="243684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Stromerzeugung aus erneuerbaren Energien in Deutschland 2008 in Gigawattstunden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0" name="Inhaltsplatzhalter 6" descr=""/>
          <p:cNvPicPr/>
          <p:nvPr/>
        </p:nvPicPr>
        <p:blipFill>
          <a:blip r:embed="rId1"/>
          <a:stretch/>
        </p:blipFill>
        <p:spPr>
          <a:xfrm>
            <a:off x="2603520" y="1779480"/>
            <a:ext cx="7056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-360" y="1931760"/>
            <a:ext cx="239724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Wärme Erzeugung aus erneuerbaren  Energien in Deutschland 2008  in Gigawattstunden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3" name="Inhaltsplatzhalter 3" descr=""/>
          <p:cNvPicPr/>
          <p:nvPr/>
        </p:nvPicPr>
        <p:blipFill>
          <a:blip r:embed="rId1"/>
          <a:stretch/>
        </p:blipFill>
        <p:spPr>
          <a:xfrm>
            <a:off x="2325600" y="1932120"/>
            <a:ext cx="73342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Quellenverzeichnis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17640" bIns="50400" anchor="t">
            <a:normAutofit/>
          </a:bodyPr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hems-renewables.de/renewable-energies/biogas.html#c763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caussade-saaten.de/Pdf/Caussade%20Biogasinfomappe.pdf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nep-group.com/text/funktion-von-biogas.htm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mifratis.de/biogaszusammensetzung.ph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mifratis.de/biogasentstehung.ph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initiative-co2.de/fachberichte/n-waerme-strom-biogas-02.pdf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biogaskontor.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w Cen MT"/>
              </a:rPr>
              <a:t>http://www.biogas-netzeinspeisung.at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w Cen MT"/>
              </a:rPr>
              <a:t>http://www.naturland.d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w Cen MT"/>
              </a:rPr>
              <a:t>http://www.Bundesumweltministerium.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Verwendbare Stoff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682560" y="1779480"/>
            <a:ext cx="8929800" cy="50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Verwendbare Stoff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931760"/>
            <a:ext cx="168264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Ausbeute Rohbioga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Inhaltsplatzhalter 6" descr=""/>
          <p:cNvPicPr/>
          <p:nvPr/>
        </p:nvPicPr>
        <p:blipFill>
          <a:blip r:embed="rId1"/>
          <a:stretch/>
        </p:blipFill>
        <p:spPr>
          <a:xfrm>
            <a:off x="1754280" y="2208240"/>
            <a:ext cx="7905600" cy="5143320"/>
          </a:xfrm>
          <a:prstGeom prst="rect">
            <a:avLst/>
          </a:prstGeom>
          <a:ln w="0">
            <a:noFill/>
          </a:ln>
        </p:spPr>
      </p:pic>
      <p:sp>
        <p:nvSpPr>
          <p:cNvPr id="375" name="Textfeld 7"/>
          <p:cNvSpPr/>
          <p:nvPr/>
        </p:nvSpPr>
        <p:spPr>
          <a:xfrm>
            <a:off x="1760040" y="1851120"/>
            <a:ext cx="1146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dd8047"/>
                </a:solidFill>
                <a:latin typeface="Arial"/>
              </a:rPr>
              <a:t>in m³/tF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2560" y="1707840"/>
            <a:ext cx="898200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Annahmeberei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er Annahmebereich dient als Zwischenlagerung der Gärsubstrat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2560" y="1779120"/>
            <a:ext cx="898200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Annahmeberei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er Annahmebereich dient als Zwischenlagerung der Gärsubstrat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3240000" y="3556080"/>
            <a:ext cx="5567400" cy="38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82560" y="1763280"/>
            <a:ext cx="898200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2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Hygienisierung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Hier werden die Substrate wie z.B. (tierische Reststoffe)  auf 70 Grad Celsius für eine Stunde erhitzt, damit keine Kontamination sowie seuchenhygienisch bedenkliche Stoffe oder Bakterien in die Biogasanlage gelangen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17:56:59Z</dcterms:created>
  <dc:creator>rene</dc:creator>
  <dc:description/>
  <dc:language>en-US</dc:language>
  <cp:lastModifiedBy>thomas liebing</cp:lastModifiedBy>
  <dcterms:modified xsi:type="dcterms:W3CDTF">2010-04-18T17:19:59Z</dcterms:modified>
  <cp:revision>73</cp:revision>
  <dc:subject/>
  <dc:title>Folie 1</dc:title>
</cp:coreProperties>
</file>